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9BCE-366E-4888-B4BD-88AE78AB4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Wikipedia: Sp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B6FF-1AD5-487B-846F-31E307063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 from Wikipedia: Copy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81A3-E2D4-4107-A31C-5579AF741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7C1-85B8-48CB-AD65-B97B7DCD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DB0-4E4D-4804-9699-72A03892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438D5-A572-445B-B8BD-4613A36D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715D9-790D-4EF9-8092-FA167D05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FFCE7-86ED-426B-B6C7-943C56F9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D3B5F-6D2F-40E8-B91F-948DEB94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D2BC7-7C9E-490A-A848-5FB5F569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14FEF-C5B4-4672-A007-ACDE75A3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12331-10D8-4F19-8EE4-B3C37C39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B1A74-B5F6-4749-9164-D5932731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542A0-779D-4FB8-B072-95F2F190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59938-E3B4-4DDC-A57F-637219B0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843-2273-4579-A94E-3142FB14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82D5A-4CC4-4E41-B695-2255D771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ED845-5744-4309-80B4-C5217F4A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7AC2C-1D6C-4ACB-B2E0-B9ED3142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5DD22-B26E-442F-A660-E3C78EBF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4FE8A-ED9C-46C2-A020-99D25E8C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7F503-8CD0-40DF-8DFA-AD3B7948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F633B-08F8-4FED-BEC8-E6F1BE40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D7345-BA2C-4AF0-93B8-9DDD289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15107-3A71-4926-887C-7215B4F8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6E89C-94A9-41FF-8ACE-7E5828BE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CF3-D88C-4DF3-BF2A-642FEAB7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CE0B2-E3D2-4E11-B949-D80C6878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3BEE0-0111-4305-9D45-F8E88BFC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91454-36E7-41A3-A21A-54127937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AE60B-1B89-4491-8C56-7EF4D1DC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29250-12DA-44E9-BFF0-87EE9113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9238E-61ED-4866-AB0D-D220950B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3C051-C876-4AC8-839C-3E7804B5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6956E-7FD9-4EF6-B084-63D0E99D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99642-805E-4DD5-8133-F0A733B6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04A41-6249-4214-8080-5F351955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ED99-C1FB-4669-93C7-39F82255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DD57A-44AA-4C47-A135-03C11C7E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0199C-87C3-4F19-BF0F-50B4C5C6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932C0-31F0-4807-B320-93C50A63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599E-E574-4DF3-9FBF-D31E2E05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864C-3EF8-4C7F-9A43-D58E7F6E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684C-8EF2-4EB5-A0CA-61EB4838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7BFE-A015-4511-8F6D-3EC2795D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22D5-4C5E-4ADB-910A-682777DA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C8FB-9958-464A-9DA2-BBAD470D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B3F-4A0C-464E-9E6C-4D402B39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9FED-FAB2-46E2-9041-DA2262F9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E9AD-7C20-4633-9DE5-D3C57909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A427-1076-451D-81EB-0F556176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8BEA-D469-4E82-9BEA-4C2A59CE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2C63-363E-443A-AA5A-A523BE53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6E29B-9575-44D0-8304-03ECEC92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8CB9B-E0CB-47AB-97D3-8F9F4037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E668-FB90-4CB5-950D-54D8A5CE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3FB7-B7EA-485A-AC0C-E987B916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63FB-E769-4ECD-91C6-39C1D64D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ECF-4EA6-4ED9-A7C9-8E07FEC1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D3281-C8E0-4E63-BB41-65C70991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6893-245F-4EB2-BBFF-813BC3F9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F6C6C-E0CE-4A74-9711-01D3B0C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18AD8-5C9F-47E1-8427-A73ABAE0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E2B0-5DBB-4CFD-9919-178B128A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5048-0EAB-4550-94FB-DF78223D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7699-32CE-4F4E-90D2-6D481098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BADA1-B16B-4D74-8A52-20991B70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2CB2E-FF2A-4345-B14E-8ED42845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9B05A-76A2-46ED-9C28-C546BE80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467-C3CC-40D4-84A8-7DAB86F2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CC685-5E34-4D53-A62F-5559EE31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893D-5ED1-4757-B01F-517CA0D6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7D8D4-AFD1-48E6-9BA7-42348241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D45D6-C23A-4D50-9828-D341BE66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DA5B-83A2-439A-B933-5A469B94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E8B17-CABA-454A-8C8F-84B8D05E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F16A7-F9E6-4E63-A1A8-44A2E14A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7827-E7F8-4744-83C0-FDBC19C2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B05C-7EA9-424D-8DC1-D3463400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948A9-7FD2-48A3-A366-BF48289D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95E-8AE8-4397-86F1-916E6BC0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398E8-28E0-423A-8008-A1E063E7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4C1D-C667-48E6-B977-8D8D9CB6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BC19A-A578-4DC8-997E-7975A2DD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32D72-4A08-4F16-9D8D-00437385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A6790-0BD9-4A35-94DC-D6B39EAE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A1EA-209F-42DF-9BF3-57CB4415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7DF06-9A44-4882-9DFB-3C918BC8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CA8CA-461E-44D3-9EA4-C2AEC86E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3165F-4A61-4646-921C-4B78E6BD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933EA-1DB4-4F91-923D-0767685E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18C-888C-429C-AA87-7E75BEE3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76C87-68A8-4D94-BE2A-6420CE09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6FB98-0752-44F9-B2C6-94282C20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1B9E1-164F-45EE-975B-EF403ACC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0B151-E384-4B0B-A185-66AA21EB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498D8-434B-47B1-9EA8-B1F29CDB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13724-E4F5-4C10-ACE5-96C2C3AC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10209-29AA-4FA6-8FE4-185FFDC7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FBE5C-B6A4-43DA-BDB8-91EF4DD7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5955C-8869-4772-8481-445953FA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73A8D-DE16-46F1-AC8F-5EAD3311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A41-01BA-48C3-AAC3-E4826582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7AE4A-6A12-436B-821D-852ED369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F9D7A-5624-4040-9623-197574B9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D3A28-A977-4661-92F5-35368FB9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45ABA-073D-404C-ACD0-E3BE614D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3ED5B-C5F3-451D-9616-24988900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C156F-6344-4A28-ABC0-34D66D02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85BC0-3C64-4F2B-B660-FEC93E80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6638F-FF23-4FF6-B7F8-9FEA1C24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FA21E-0624-4EF1-9DEC-992AD1D4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34301-4AA6-4ECB-AE65-0833E631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79F-67A8-4E61-BC55-F63C8CB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9D44A-FD0F-4439-91F4-BC2E0B5B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BCC9C-6580-4B1A-948F-25750D0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755DE-F5CB-42B3-AD8A-B7AA3AD9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2B50A-C8A1-4128-84F5-FC29BCE5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A1834-0DFE-4E6D-89E5-7B2B6243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B8890-BF95-49E1-AD4C-32CD1C7A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EDE61-30E4-4178-9499-68EC3836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575E7-85C5-45AB-A695-B6606D68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B7BEA-B815-496F-8EA6-3918D473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21263-97F1-4D98-AF7C-568A358F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C6A-6A0F-4B5D-B219-5A3D0B56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845AC-6A86-4ECE-9E4A-E1A179D8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D13E7-0DF3-49A0-B4FA-DF48A601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468BD-B3A3-4A83-AE9C-C346E3E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F6F38-DD1A-4442-BF1B-D6508C84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5E57F-2CB0-4119-8DFB-AD7766D8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7DDE1-4A68-4AF9-BEF3-59B51FE1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F05B4-6B20-4F9B-BBED-E518BD65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2CEE1-CDCC-4FC3-9626-0351D0B9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E504D-E7C2-49F8-B4FC-8199521F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24816-A662-4AE7-B1EA-B7A12167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AAC3-6253-42CE-8673-AA6BC6950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C13F-B8EB-4967-981B-B4739795D4E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282B-F964-40A9-990A-A912A842817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530B-6CE7-411D-B57F-9A30765B15BA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5E84-38B3-4754-B0B0-4817108ACB6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127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212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95E0-0968-494B-B456-8DDFD7B29DB4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257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9282-89E3-4475-A838-C68C9AC4139A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6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7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E079-1503-4098-8F7B-E1150CA60184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9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0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3AE5-CF52-4D1B-85B1-ECDF5CFF9F1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91BD-7DED-4A5C-9D8B-A75DDC3F517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52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6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3CC3-90BE-4525-969D-AE4AC695E55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68" name="Picture 4" descr="epic-win-photos-math-problem-win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buying spices by heydrienne."/>
          <p:cNvPicPr/>
          <p:nvPr/>
        </p:nvPicPr>
        <p:blipFill>
          <a:blip r:embed="rId1"/>
          <a:stretch/>
        </p:blipFill>
        <p:spPr>
          <a:xfrm>
            <a:off x="457200" y="1752480"/>
            <a:ext cx="5067360" cy="380052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 Creative Commons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5579280" y="2057400"/>
            <a:ext cx="348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lso look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NU General Public Lic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© Some rights reser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Copyleft symb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5" descr="200px-Copyleft"/>
          <p:cNvPicPr/>
          <p:nvPr/>
        </p:nvPicPr>
        <p:blipFill>
          <a:blip r:embed="rId2"/>
          <a:stretch/>
        </p:blipFill>
        <p:spPr>
          <a:xfrm>
            <a:off x="6629400" y="4365720"/>
            <a:ext cx="10666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Rectangle 2" descr=""/>
          <p:cNvPicPr/>
          <p:nvPr/>
        </p:nvPicPr>
        <p:blipFill>
          <a:blip r:embed="rId2"/>
          <a:stretch/>
        </p:blipFill>
        <p:spPr>
          <a:xfrm>
            <a:off x="-139680" y="2011320"/>
            <a:ext cx="5187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What is a trademark?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stinctive indicator of a consumer product or service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trademar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 - registered trademar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egal enforcement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uall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results from commercial use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What is copyright? ©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9144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clusive rights granted to the creator of an original work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aptation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not need to be registered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not protect ideas, only their expression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Franklin Gothic Book"/>
              </a:rPr>
              <a:t>Authors have the right to grant or deny educational use of their copyrighted material.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Educational Fair Use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219320" y="1905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04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al copies allow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04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mited student handout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901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ort article or essa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901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picture or cartoon per sourc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04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harm to commercial interests.”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901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osting without permiss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901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commercial workshops allow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04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851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egal Use of Television Programs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143000" y="23623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spcAft>
                <a:spcPts val="2126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lassroom use within 10 days.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spcAft>
                <a:spcPts val="2126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nly one showing allowed.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spcAft>
                <a:spcPts val="2126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opy destroyed after 45 days.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ceptions to Copyright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9144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ublic domai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ired copyright, o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nted by author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limited reproduction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mited copyrigh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granted by author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6:35:11Z</dcterms:created>
  <dc:creator>Cynthia Moore</dc:creator>
  <dc:description/>
  <dc:language>en-US</dc:language>
  <cp:lastModifiedBy>Cynthia Moore</cp:lastModifiedBy>
  <dcterms:modified xsi:type="dcterms:W3CDTF">2011-04-14T18:46:14Z</dcterms:modified>
  <cp:revision>12</cp:revision>
  <dc:subject/>
  <dc:title>Slide 1</dc:title>
</cp:coreProperties>
</file>